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3B3-E6D8-427F-9AAE-F45D852D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730-63A5-492D-A1C3-0497DAF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498-1AAA-4D85-AEAA-27B86420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68A-6FA9-4C0D-929C-BEDC1988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4F1-7DF5-484A-A8EF-6FE26A33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F13-0B85-41A3-8C72-ADBCB12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468-F5C6-4093-BBB2-A3F39209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64F-3F93-438D-A72D-A27E3EC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BA0-118F-450E-AD55-D3AB25B2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BD7-C24E-43F7-BA88-CF899B4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F48-0CDB-4685-874C-9F9FD94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B08-984D-42A5-8B49-14B6C25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389F-94F3-400F-9EE3-1D48A53176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ourney’s End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.C. Sherri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553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595959"/>
                </a:solidFill>
                <a:latin typeface="Calibri"/>
              </a:rPr>
              <a:t>Show how the writer creates the theme of conflict within the play </a:t>
            </a:r>
            <a:r>
              <a:rPr b="0" i="1" lang="en-GB" sz="3200" spc="-1" strike="noStrike">
                <a:solidFill>
                  <a:srgbClr val="595959"/>
                </a:solidFill>
                <a:latin typeface="Calibri"/>
              </a:rPr>
              <a:t>Journey’s End</a:t>
            </a:r>
            <a:r>
              <a:rPr b="0" lang="en-GB" sz="3200" spc="-1" strike="noStrike">
                <a:solidFill>
                  <a:srgbClr val="595959"/>
                </a:solidFill>
                <a:latin typeface="Calibri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"/>
          <p:cNvSpPr/>
          <p:nvPr/>
        </p:nvSpPr>
        <p:spPr>
          <a:xfrm>
            <a:off x="324000" y="0"/>
            <a:ext cx="8496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This paragraph – like every one in the body of an essay -  should consist of PEA :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oint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vidence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naly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What i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you’re trying to make (e.g. Stanhope’s inner-conflict effectively adds more layer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his character; allowing us to see his sensitive si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Now give so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vid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(a quote) to support this id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Finally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naly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the quote, linking it into your point and saying what i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sugg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about the character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onfli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1853640"/>
            <a:ext cx="9153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What is Stanhope’s inner conflict in this part of the pl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Can he trust Raleigh? What is it he does not want him to write home ab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How does he feel after hearing Osborne read the letter out alou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Find an example and a quote to support your example–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remember to include        the page nu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Stage directions here may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How do stage directions help us to understand Stanhope’s inner-confli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Stage directions are the writing, written 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ital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which are basically directions the director would give to help it be acte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Find a quote to show this –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remember to include the page nu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Finish off with a couple of sentences about how the theme of inner-conflict is created and shown through the character of Stanh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395280" y="33192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If you are struggling to find the stage direction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Look at the final line of the stage directions of this scene: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“The sun is shining quite brightly in the trench outside”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(p.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Why do you think the writer has included this? What is he trying 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sugges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by including it (in relation to Stanhope’s inner-conflic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Use this quote and comment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"/>
          <p:cNvSpPr/>
          <p:nvPr/>
        </p:nvSpPr>
        <p:spPr>
          <a:xfrm>
            <a:off x="324000" y="0"/>
            <a:ext cx="8496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This paragraph – like every one in the body of an essay -  should consist of PEA :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oint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vidence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naly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What i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you’re trying to make (e.g. Stanhope’s inner-conflict effectively adds more layer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his character; allowing us to see his sensitive si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Now give so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vid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(a quote) to support this id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Finally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naly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the quote, linking it into your point and saying what i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sugg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about the character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onfli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9280" y="1916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flict between Stanhope and Hibbert: pp.54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e argument between the two men about? What does Hibbert want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do Stanhope and Hibbert’s opinions/attitudes diff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d a quote (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ge 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 to support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50920" y="378936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e audience’s impression of Stanhope at the beginning of this scene, especially when he threatens to kill Hibbert for deser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does this change? Find an example of some stage directions (the words in italic writing) which back thi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24000" y="5300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end of this scene with Hibbert, how has the audience’s feeling’s towards Stanhope chang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o you think he’s a good man? A bad man? Heartless? Kind? This is up to you to decid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 an example from the text to back thi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0:35:04Z</dcterms:created>
  <dc:creator>Gibb</dc:creator>
  <dc:description/>
  <dc:language>en-US</dc:language>
  <cp:lastModifiedBy>Gibb</cp:lastModifiedBy>
  <dcterms:modified xsi:type="dcterms:W3CDTF">2011-12-08T22:46:14Z</dcterms:modified>
  <cp:revision>16</cp:revision>
  <dc:subject/>
  <dc:title>Journey’s End R.C. Sherriff</dc:title>
</cp:coreProperties>
</file>